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BD5521F-B464-42ED-B65A-2DF9CFE5B181}"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24AF099-C55C-4E1B-B096-4E62E80F9239}"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454F2-23D1-4DB8-B7DE-35DC87351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D3151-43DD-48CC-B1D4-F1CEAFC13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F4368-5550-4CEE-A045-EAE356E0B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45C0B-2CED-407B-B8D0-A0B17DCE3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2FAFB-7428-40A0-B53F-C277BE03D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4BED2-19B6-4C8E-ABA4-651ED1C62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4414B-73D9-4BFE-AB67-3602A437D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0ACA5-BD0B-4E24-BEBF-418257BE7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75FAD-DD12-4B37-98A1-7E66CC203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EAC19-AA43-4F0D-8762-E47B10131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64101-5052-4416-944C-FF2829B87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54C5B-7D11-4F53-BCCA-914DC6759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3CAC-F08A-480A-B649-5934BD15B6B0}"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5380200" y="617400"/>
            <a:ext cx="356544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8D432-491D-492C-BA53-05058A5233A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610A7-A850-4E31-A891-51CF6913AEF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6CDCE-62F1-4536-A5AA-5B46B16EE60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0D41-F8E2-42DF-9705-B9760D77821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3A77-6FAD-4C42-9608-2F4434D0A3B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A605B-007F-4551-8BDF-1B607ABF653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1080A-978A-4169-8F44-6902BB58DF3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2368-EBBC-40A7-B1BC-0D476A37A50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2D7DE-2285-482F-912C-B26BCBDD194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1F64-1B47-4095-BEBE-0C10CA31C90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73B39-B02D-4A35-804D-286A5109512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7A2BD-A65B-496F-80DC-CD55FEBF407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33BB-3CA5-41F0-AEFB-304B02906CF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4C924-FFBB-4D5F-958E-E2483C405CF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DCCC-10D6-42AF-8350-E5C03C3B22B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DE49D-A7CA-446D-91B8-7343861353A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3E56D-4301-45D9-BB28-E89F26DCBF6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898E-6993-4632-80BB-C988390B1FF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73D5E-3038-4103-BF10-BE8CABA08DF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F8C4-147B-4C28-9DE5-4C5D945BC27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29A79-6701-46FD-BC3E-6ADDC24ABBD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30F3F-6390-4B4A-BE05-42A02410F7B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A93EE-488C-4D3D-96FD-C9DA003EFE6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53F9-E9A4-49C8-A981-720BF988839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F8C7-6CB5-4DD4-8F90-ED442B6705A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F058F-434A-4CAF-9A19-B34A192D0A8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BBE2F-A651-43BF-A09E-4835FCF9F25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6918A-7DF1-43F5-945E-3CFBADBE2FF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D5064-1050-490F-B257-624ECAD09AE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C89E-E90F-4B4E-9B8C-23CF4A47BA1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0C7D-9331-4F2D-BD77-B9D61979D74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60CF-5AF7-46F4-BDD0-1C00E76CB6F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6756-FD56-416D-8A5C-EC90007AD4F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C3009-2AD7-47EB-A04B-D657E5AA966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8AA1B-F12E-43DA-92F5-CF44FC44BFE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7D478-7DCE-469D-8D8A-3E5E6F0A195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98E1F-E59E-4345-A588-C9E11D6AF0B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9602-603C-44F4-905E-BD32BC55D59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44584-EB46-457D-9232-B97B00FAD4D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B985B-C20F-4B6A-A680-0892E333480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3D0E5-3FA6-4D95-998A-ED7A6E39746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8-01-23T11:29:01Z</dcterms:modified>
  <cp:revision>72</cp:revision>
  <dc:subject/>
  <dc:title>Aims and Objectives</dc:title>
</cp:coreProperties>
</file>